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EBB-620C-42FA-8BD5-201516F6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129-A249-4E03-9AD2-BA0B7BBF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AA9-BA31-4161-96E9-8C863276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E06-4F4E-437E-B168-269545D9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FD8-7F93-4B29-82C7-ED9D6F9C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615-BB10-4FB5-9482-5B261A84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1D85-9514-4E3C-8F68-36D3DA0C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FD1D-E437-4273-9629-B4F5AF1D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452-03CA-445F-AC8B-A008DE67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006-00F1-4F3D-9D24-7DE390F4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A607-2C03-425C-9B87-08BDE73B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A9C-CD29-4E88-A12E-58B7CDFB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4BC233-3923-425C-8441-AC54DAF3C59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5"/>
          <p:cNvSpPr/>
          <p:nvPr/>
        </p:nvSpPr>
        <p:spPr>
          <a:xfrm>
            <a:off x="0" y="2160"/>
            <a:ext cx="642600" cy="1854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18000" tIns="10800" bIns="10800" anchor="b">
            <a:spAutoFit/>
          </a:bodyPr>
          <a:p>
            <a:pPr algn="r">
              <a:lnSpc>
                <a:spcPct val="90000"/>
              </a:lnSpc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0" y="1785960"/>
            <a:ext cx="9143640" cy="5071680"/>
          </a:xfrm>
          <a:prstGeom prst="rect">
            <a:avLst/>
          </a:prstGeom>
          <a:solidFill>
            <a:schemeClr val="bg1">
              <a:alpha val="38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8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66ff"/>
                </a:solidFill>
                <a:latin typeface="Calibri"/>
              </a:rPr>
              <a:t>О ВНЕСЕНИИ ИЗМЕНЕНИЙ В РЕШЕНИЕ АЛНАШСКОГО РАЙОННОГО СОВЕТА ДЕПУТАТОВ ОТ 18.12.2020г. №29/233 «О бюджете МО «АЛНАШСКИЙ РАЙОН» НА 2021 ГОД И ПЛАНОВЫЙ ПЕРИОД 2022 И 2023 ГОД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Начальник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Управления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финансо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         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Г. П. Яковл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571320"/>
            <a:ext cx="9143640" cy="1356840"/>
          </a:xfrm>
          <a:prstGeom prst="rect">
            <a:avLst/>
          </a:prstGeom>
          <a:solidFill>
            <a:schemeClr val="bg1"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ЕССИЯ СОВЕТА ДЕПУТАТОВ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О «МУНИЦИПАЛЬНЫЙ ОКРУГ АЛНАШСКИЙ РАЙОН»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9 декабря  202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188640"/>
            <a:ext cx="82292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точнение планов по доходам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Таблица 3"/>
          <p:cNvGraphicFramePr/>
          <p:nvPr/>
        </p:nvGraphicFramePr>
        <p:xfrm>
          <a:off x="323640" y="770040"/>
          <a:ext cx="8477280" cy="5898960"/>
        </p:xfrm>
        <a:graphic>
          <a:graphicData uri="http://schemas.openxmlformats.org/drawingml/2006/table">
            <a:tbl>
              <a:tblPr/>
              <a:tblGrid>
                <a:gridCol w="359640"/>
                <a:gridCol w="7203240"/>
                <a:gridCol w="914040"/>
              </a:tblGrid>
              <a:tr h="4093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3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Сум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Тыс.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Собственные налоговые и неналоговые доходы-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7462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050" spc="-1" strike="noStrike">
                        <a:solidFill>
                          <a:srgbClr val="0066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13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050" spc="-1" strike="noStrike">
                        <a:solidFill>
                          <a:srgbClr val="0066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НДФ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10263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050" spc="-1" strike="noStrike">
                        <a:solidFill>
                          <a:srgbClr val="0066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ЕНВ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5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050" spc="-1" strike="noStrike">
                        <a:solidFill>
                          <a:srgbClr val="0066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Государственная пошлина по делам, рассматриваемым в судах общей юрисдикции, мировыми судьями (за исключением Верховного Суда Российской Федерации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050" spc="-1" strike="noStrike">
                        <a:solidFill>
                          <a:srgbClr val="0066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Налог, взимаемый в связи с применением патентной системы налогооблож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76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050" spc="-1" strike="noStrike">
                        <a:solidFill>
                          <a:srgbClr val="0066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ЕСХ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25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050" spc="-1" strike="noStrike">
                        <a:solidFill>
                          <a:srgbClr val="0066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Прочие доходы от компенсации затра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5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050" spc="-1" strike="noStrike">
                        <a:solidFill>
                          <a:srgbClr val="0066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Доходы от реализации иного имущес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5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050" spc="-1" strike="noStrike">
                        <a:solidFill>
                          <a:srgbClr val="0066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Родительская пла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193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050" spc="-1" strike="noStrike">
                        <a:solidFill>
                          <a:srgbClr val="0066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Прочие дох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11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05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2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Безвозмездные поступления от других  бюджетов  бюджетной системы РФ –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95012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i="1" lang="ru-RU" sz="1050" spc="-1" strike="noStrike">
                        <a:solidFill>
                          <a:srgbClr val="0066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в том числе 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i="1" lang="ru-RU" sz="1300" spc="-1" strike="noStrike">
                        <a:solidFill>
                          <a:srgbClr val="0066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88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i="1" lang="ru-RU" sz="1050" spc="-1" strike="noStrike">
                        <a:solidFill>
                          <a:srgbClr val="0066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субв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i="1" lang="ru-RU" sz="13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52360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субсид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i="1" lang="ru-RU" sz="13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1814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88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i="1" lang="ru-RU" sz="1050" spc="-1" strike="noStrike">
                        <a:solidFill>
                          <a:srgbClr val="0066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Дотации на сбалансированность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i="1" lang="ru-RU" sz="13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23656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Иные МБ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i="1" lang="ru-RU" sz="13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854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05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3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66ff"/>
                          </a:solidFill>
                          <a:latin typeface="Arial Cyr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106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58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95"/>
          <p:cNvSpPr/>
          <p:nvPr/>
        </p:nvSpPr>
        <p:spPr>
          <a:xfrm>
            <a:off x="0" y="41400"/>
            <a:ext cx="755280" cy="1854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18000" tIns="10800" bIns="10800" anchor="b">
            <a:spAutoFit/>
          </a:bodyPr>
          <a:p>
            <a:pPr algn="r">
              <a:lnSpc>
                <a:spcPct val="90000"/>
              </a:lnSpc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29240" cy="1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Уточнение планов по расходам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Group 125"/>
          <p:cNvGraphicFramePr/>
          <p:nvPr/>
        </p:nvGraphicFramePr>
        <p:xfrm>
          <a:off x="142920" y="448920"/>
          <a:ext cx="8768880" cy="5984280"/>
        </p:xfrm>
        <a:graphic>
          <a:graphicData uri="http://schemas.openxmlformats.org/drawingml/2006/table">
            <a:tbl>
              <a:tblPr/>
              <a:tblGrid>
                <a:gridCol w="208080"/>
                <a:gridCol w="7578360"/>
                <a:gridCol w="982440"/>
              </a:tblGrid>
              <a:tr h="4399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Сум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за счет безвозмездных поступлений от других бюджетов  - всего, в т. 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+9501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 rowSpan="1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66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на погашение процентов по коммерческому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+117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на увеличение ФОТ по детским садам, школ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+5248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на реализацию проектов по 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+78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на подготовку к отопительному периоду ЖК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+18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на проект капитального ремонта по АС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+1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КОВИД ( приобретение СИЗов, оборудования и т.д. для образователь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+214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на увеличение ФОТ (местный бюдже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+1913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на переселение граждан из аварийного жилищного фон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-40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на стимулирование по итогам СО и И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+1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На  отдел опеки и попечительства, многодетных (выплата компенсаций за неиспольз.отпуска, выходн.пособ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26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на расходы на дополнительное профобраз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+6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На организацию горячего п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-50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на питание детей и з  многодетных сем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-35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за счет прочих доходов - всего, в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+10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70c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спонсорские на проведение новогодних меро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+10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За счет дополнительных налоговых и неналоговых доходов., в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+746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70c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На увеличение ФОТ (местный бюдже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+937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Родительская пл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-19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70c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На текущее содержание зданий, приобретение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+2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8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95"/>
          <p:cNvSpPr/>
          <p:nvPr/>
        </p:nvSpPr>
        <p:spPr>
          <a:xfrm>
            <a:off x="0" y="23400"/>
            <a:ext cx="713880" cy="1854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18000" tIns="10800" bIns="10800" anchor="b">
            <a:spAutoFit/>
          </a:bodyPr>
          <a:p>
            <a:pPr algn="r">
              <a:lnSpc>
                <a:spcPct val="90000"/>
              </a:lnSpc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сновные параметры бюджета МО «Алнашский район» на 2021 год   с учетом вносимых изменений , тыс.руб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Group 57"/>
          <p:cNvGraphicFramePr/>
          <p:nvPr/>
        </p:nvGraphicFramePr>
        <p:xfrm>
          <a:off x="107640" y="1700640"/>
          <a:ext cx="8784720" cy="3592800"/>
        </p:xfrm>
        <a:graphic>
          <a:graphicData uri="http://schemas.openxmlformats.org/drawingml/2006/table">
            <a:tbl>
              <a:tblPr/>
              <a:tblGrid>
                <a:gridCol w="753480"/>
                <a:gridCol w="974160"/>
                <a:gridCol w="936000"/>
                <a:gridCol w="864000"/>
                <a:gridCol w="864000"/>
                <a:gridCol w="1080000"/>
                <a:gridCol w="1224000"/>
                <a:gridCol w="1080000"/>
                <a:gridCol w="1008000"/>
              </a:tblGrid>
              <a:tr h="790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Первоначальный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Изменения 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Изменения  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Изменения  ию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Изменения  ию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Изменения  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Изменения  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Всего с учетом изме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Общий объем до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70682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2565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180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3934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5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10741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10258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05008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Общий объем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70682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3138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4231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3934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5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10741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+10258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08011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Профицит(+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дефицит(-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-572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Calibri"/>
                        </a:rPr>
                        <a:t>-2430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3003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95"/>
          <p:cNvSpPr/>
          <p:nvPr/>
        </p:nvSpPr>
        <p:spPr>
          <a:xfrm>
            <a:off x="0" y="2160"/>
            <a:ext cx="642600" cy="1854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18000" tIns="10800" bIns="10800" anchor="b">
            <a:spAutoFit/>
          </a:bodyPr>
          <a:p>
            <a:pPr algn="r">
              <a:lnSpc>
                <a:spcPct val="90000"/>
              </a:lnSpc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27860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ПАСИБО ЗА ВНИМАНИЕ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5"/>
          <p:cNvSpPr/>
          <p:nvPr/>
        </p:nvSpPr>
        <p:spPr>
          <a:xfrm>
            <a:off x="0" y="2160"/>
            <a:ext cx="642600" cy="1854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18000" tIns="10800" bIns="10800" anchor="b">
            <a:spAutoFit/>
          </a:bodyPr>
          <a:p>
            <a:pPr algn="r">
              <a:lnSpc>
                <a:spcPct val="90000"/>
              </a:lnSpc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  <Words>516</Words>
  <Paragraphs>1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 1</cp:lastModifiedBy>
  <dcterms:modified xsi:type="dcterms:W3CDTF">2021-12-28T10:25:20Z</dcterms:modified>
  <cp:revision>17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5</vt:r8>
  </property>
</Properties>
</file>